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3468-43B3-4C20-917C-B3A9DCF2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7A7-30CF-4ACD-9B30-F37D2939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C621-BF31-42F8-9387-3C8B7F86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EC1-02F5-4B28-8897-F81DBC1F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66C-473B-4631-8505-700D09B5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004A-AFAD-46FC-9C80-0E650453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255-06AF-436D-9155-2F3F6CFB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B761-EC87-45B0-8102-8E43CA84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029-197D-413D-927D-8D42E3A8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5B7-A1BB-4016-BB8B-515E4C1F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025-908C-4FD3-889C-36E3C737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AC3-0353-460E-91ED-84B40D76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2924-97EE-45ED-AB24-A46B11F1B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C++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1: The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bruary 5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so far, always 1 by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ctly li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cept that eac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is mapped to a specific character in the ASCII character 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a = ‘A’; // Use single-qu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a = 65;  // Exactly the same as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= a + 1;    // Now a holds ‘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is not important, accepts only two value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ly recent addition to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 a 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 b = (num &gt; 10); // b will be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/C++, arrays are always static and must have an initial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arrays using []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0-based indices (from 0 to n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yArray[10];    // Declare array of 10 inte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Array[0] = 5;     // Put value in first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 = myArray[0]; // Get first 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Array[10] = 8;    // BAD! Index out of rang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String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/C++, a string is a null-terminated array of characte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name[] = “Tony”; // String is 4 characters l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em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7560" y="5257800"/>
            <a:ext cx="30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92480" y="5257800"/>
            <a:ext cx="30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7400" y="5257800"/>
            <a:ext cx="30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01960" y="5257800"/>
            <a:ext cx="30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6880" y="5257800"/>
            <a:ext cx="30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8920" y="46483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56680" y="46483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[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50292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581280" y="50292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3080" y="594360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-terminator: ‘\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428640" y="56383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Ident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rs: variable names, function names, class nam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nam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-numeric and underscore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NOT start with a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not be a 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n_old_style_var; // Val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version5;        // Val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_rightOn;        // Valid (starts with undersco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56Hello;          // Invalid! Starts with a numb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ittle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developed in early 1970s as a system implementation language for Unix. It was developed by Dennis M. Ritchie at Bell La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++ developed in 1983 by Bjarne Stroustrup, also at Bell La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l Labs split into AT&amp;T Labs and Bell Lucent La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… C++… What’s the dif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++ is an extension of C – i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m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lly backwards compatible with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is a “procedural”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++ is an “object-oriented”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, C++ allows for code that is easier to read, maintain, and 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("Hello World!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main()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f() is a function available from the stdio library to print to standard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Compile and Run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Visual C++ 6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roject: Win32 Console 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file called “hello.cp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“Hello World!”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++, two commenting styles avail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// to comment to the end of the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/* … */ to comment a block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: Always use // to comment your code, and keep /* … */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mporar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ent out a block of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basic data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(Floating Po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n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 type! Strings are implemented as arrays of characters. More on this la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size of each is system-dependent. On Intel Pentiums: short = 2 bytes, int = 4 bytes, long = 4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default, but you can specif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sig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g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[L | 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30, 40l, 9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u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ong d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Pentium sizes: float = 4 bytes,    double = 8 bytes, long double = 8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gits.Dig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on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[f | F | l | L]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onent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 | E) [+ | -]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2.34, 3.5f, 0.5L, 4e5, 5.6e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1:49:56Z</dcterms:created>
  <dc:creator>Home</dc:creator>
  <dc:description/>
  <dc:language>en-US</dc:language>
  <cp:lastModifiedBy>Antonio Maiorano</cp:lastModifiedBy>
  <dcterms:modified xsi:type="dcterms:W3CDTF">2002-02-25T16:56:28Z</dcterms:modified>
  <cp:revision>20</cp:revision>
  <dc:subject/>
  <dc:title>C/C++ Tutorial</dc:title>
</cp:coreProperties>
</file>